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72B-33E6-4B42-8197-65A3816E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22D-D584-4F48-B09D-6703F6FD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E61-6006-432E-B6B4-1AFD3BD1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F6E-F5E6-462C-BA74-05911B64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F710-1A53-4048-9D66-81A42223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C8E7-39E1-4D73-A526-AF220F83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00DD-2657-4EEF-AA53-A60ADB12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20CE-D5DC-4B37-9910-E60E802C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7858-D981-46E9-9FDD-751FE304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B949-A948-40B2-AA51-3669B181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5504-AB9E-4216-8A97-5D85BD9E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AAC-FE46-4412-9E80-DBC72444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A34B-B879-4312-84B8-43FF8E78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5C03-52A0-4852-9AC1-298A3334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5AC6-F50A-4963-8A34-A53501AB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BFAD-D5E1-450F-B456-D552B517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DB2E-0E52-46EB-8CB9-4190599A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56894-D483-46E9-88DB-AB3211AA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791B9-5374-4C13-B190-394B5A83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C2F8D-65C9-4C9C-B5D0-7B111944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5F05A-9B83-4448-9120-9693B574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837BC-13B2-4049-86D0-1A990497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306-6FD4-47FC-86C8-8D4BBD15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131EB-B075-4B5F-9BEE-F550C3A5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383DD-80DD-4BAC-8948-B66D6897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2E4ED-2F4E-4C95-92DD-3C189895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922D4-82A0-4B7A-9FA3-A02D35DE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79A3D-2752-4CE2-9FEE-7E15F135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DE575-C890-414E-8E90-793D87F8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A4084-3C81-42CF-95B8-EDE693AA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F186-0179-48CA-B9D9-69399C77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1FB1B-D549-4D65-BFEA-0C25AAEA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86E67-5EBF-4100-9A7A-A721C50D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F54-CB00-4F99-8C74-FB66FAD0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12A2-19E5-45D2-B51E-9978A83B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FDF6A-4F10-4C5F-9A02-DEC51E85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FFB6B-22FB-4047-8C43-01C57C63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4F7BD-6A62-4EF4-805B-57D8DF88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D372-F8A4-43EC-A7C4-02BDCD6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DC95E-F2F6-40E8-9044-64003FB3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6C765-3BA5-477C-8218-1318CBC4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CAD4C-3BEF-4A60-AB8B-2D40C4A7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36732-09D7-41F4-BEA8-86A2A597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8A469-8645-4838-BA03-4C145A6A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036-7FFE-4596-A634-AD255774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06F8B-CC38-4D35-9A3D-CF0796AF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337B1-993B-4064-8F80-3823F5D9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C18A2-C7CE-41F6-AC63-21B440FE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78B563-7EE2-48F3-B4CC-86620C68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5890A-AD0F-40A5-BC65-65EE086C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785EF-5DC9-4AAE-8C8B-D1A759E6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66F1C-0B21-45FA-956D-02D068C5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8055A-0C18-47D1-B5A1-003B100E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C3D7F-DBE8-457B-8873-6BFC62F2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C0C9B-B10F-4D5F-8E3A-435D9DC0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317-B62F-43BF-84C0-0EBC5275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AE302-C029-4944-90BF-E335DD32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31024-0FD4-483A-A3C8-4643A4A1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B8C02-E4E9-4BC9-BA36-DC6B76F2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8A44F-0CEB-499C-9F99-20E3DC2C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73A19-55B4-4598-BA52-B9B6EB51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2744F-892B-423D-9110-8661F68C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04BEB-C315-4140-B2E6-E492FFBD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96222-38EA-4A38-A4C1-74D9E4DC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06627-547E-4DB4-A286-BCBD5AA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E4CD10-7EB6-4E37-9734-917D7E9F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5D3-B29C-4772-B8AC-AB70C413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D8A63-2D3B-47F3-AE0D-CB897064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4612B-B927-4976-A35E-982595DA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D2C25-5F91-43B9-83AF-2E9461A7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B0CFE-6097-4384-B35B-34CA6604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FC055-C741-47A8-8BF9-2161BF83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777F7-5637-4177-82B2-DFAFB4F6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01FC1-2AD5-4BDD-9300-F0ED83C3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80675-09CE-45FB-BF28-73F212EC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119BB-F8ED-4F7C-8888-225EF925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FC22B-788C-4527-A69D-782DF60F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591-0AF7-432D-ACD2-72B2D7F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09B3A1-2B72-4991-861B-5948FC5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F9548E-CB28-4A2D-9655-22E26D14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672A3-6720-427C-845F-048B6055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BE8F7-F969-4A4B-A7DC-DD09A25C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1C7CB-1656-478F-8B1C-E19F391C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6B4-6940-47A2-A744-1107A4D5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A2F6-70D9-4872-ABEA-72EB06674F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EBAF-19B0-4C85-AEF9-016B8F4886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6BEF-9197-4FEC-BEC1-1440C52B7C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82A6-0FF5-428D-B756-6C90790123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C70D-1D9F-467D-B33F-F1C3FC8A90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A0DF-2897-488F-88DA-DD647E06DF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4E28-D7D3-45FE-AA85-E9F9EAC276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1f497d"/>
                </a:solidFill>
                <a:latin typeface="Century Schoolbook"/>
              </a:rPr>
              <a:t>УНИВЕРЗИТЕТ</a:t>
            </a:r>
            <a:r>
              <a:rPr b="1" lang="en-US" sz="24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sr-CS" sz="2400" spc="-1" strike="noStrike">
                <a:solidFill>
                  <a:srgbClr val="1f497d"/>
                </a:solidFill>
                <a:latin typeface="Century Schoolbook"/>
              </a:rPr>
              <a:t>У</a:t>
            </a:r>
            <a:r>
              <a:rPr b="1" lang="en-US" sz="24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sr-CS" sz="2400" spc="-1" strike="noStrike">
                <a:solidFill>
                  <a:srgbClr val="1f497d"/>
                </a:solidFill>
                <a:latin typeface="Century Schoolbook"/>
              </a:rPr>
              <a:t>КРАГУЈЕВЦУ</a:t>
            </a: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Century Schoolbook"/>
              </a:rPr>
              <a:t>ФАКУЛТЕТ</a:t>
            </a:r>
            <a:r>
              <a:rPr b="1" lang="en-US" sz="24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sr-CS" sz="2400" spc="-1" strike="noStrike">
                <a:solidFill>
                  <a:srgbClr val="1f497d"/>
                </a:solidFill>
                <a:latin typeface="Century Schoolbook"/>
              </a:rPr>
              <a:t>МЕДИЦИНСКИХ</a:t>
            </a:r>
            <a:r>
              <a:rPr b="1" lang="en-US" sz="24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sr-CS" sz="2400" spc="-1" strike="noStrike">
                <a:solidFill>
                  <a:srgbClr val="1f497d"/>
                </a:solidFill>
                <a:latin typeface="Century Schoolbook"/>
              </a:rPr>
              <a:t>НАУКА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38280" y="228600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entury Schoolbook"/>
              </a:rPr>
              <a:t>Трећи моду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entury Schoolbook"/>
              </a:rPr>
              <a:t>Једанаесто предавањ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1f497d"/>
                </a:solidFill>
                <a:latin typeface="Century Schoolbook"/>
              </a:rPr>
              <a:t>РЕХАБИЛИТАЦИЈА  БОЛЕСНИКА</a:t>
            </a:r>
            <a:r>
              <a:rPr b="1" lang="en-U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Century Schoolbook"/>
              </a:rPr>
              <a:t>СА ЛЕЗИЈОМ Ц.М.Н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f81bd"/>
                </a:solidFill>
                <a:latin typeface="Century Schoolbook"/>
              </a:rPr>
              <a:t>Доц.  др Ана Дивја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6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152280"/>
            <a:ext cx="914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МОЖДАНИ УДАР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Патофизиолог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хемија представља стање у коме су и довод и одвод крви из мозга или региона блокирани, односно исхемијом се означава онај метаболички поремећај у функционисању мозга, узрокован редукцијом циркулације, која се завршава морфолошким оштећењем нервних елемената. Цереброваскуларни инсулт или друга оштећења и повреде ЦНС, доводе до стварањ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Централне или некротичне </a:t>
            </a: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зоне исхемије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одговарају инфаркту мозга иреверзибилној (трајној) лезији која се никаквим методама нити средствима не може лечити. Иреверзибилне промене, нема никаквог терапијског одговор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Зон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пенумбре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енглеска реч, значи засенчење) или гранична зона, у којој је присутна минимална циркулација, хипоперфузија и где неурони нису "умрли", већ се налазе у стању функционалне и метаболичке супресије и функционишу на нижим енергетским захтевима. Реверзибилне поремећај, таргет за реканализацију и неуропротекцију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Зона едема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озга: цитотоксични (метаболички) едем или вазогени едем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МОЖДАНИ УДАР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981080"/>
            <a:ext cx="746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entury Schoolbook"/>
              </a:rPr>
              <a:t>Пластичност можданих структур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пособност можданих структура да мењају функционалну структурну организацију назива се пластичност. Ова пластичност се огледа у следећем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Грањање аксона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ћелије глије могу довести до бујања повређеног неурона или појаве колатералних изданака из повређених аксона, а са циљем попуњавања упражњених синаптичких мес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Денервацијска хиперсензитивност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ћелија која је изгубила везу са проксималним неуроном постаје осетљивија на спољашње и унутрашње стимулус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МОЖДАНИ УДАР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981080"/>
            <a:ext cx="746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Пластичност можданих структур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Изопотенцијалност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 постоје групе нервних ћелија које имају исте могуцности а од којих су неке више или  мање активне. Касни функционални опоравак се може објаснити постојањем "немих путева" који се тек након повреде активирај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Супституциј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 путем синаптичке реорганизације, ћелије које су имале једну функцију преузимају друг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Компензациј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 обезбеђење агонистичких супстанци које олакшавају фунционисање асцедентних норадренегичких и допаминских влакана, као и система који су у директној вези са конгнитивним побољшањим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МОЖДАНИ УДАР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есници са хемиплегијом моторички пролазе кроз две клиничке фаз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I  Фаза млитаве хемиплегије – Фаза мировањ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II  Фаза спастичне хемиплегије – Фаза мобилизациј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МЕДИЦИНСКА РЕХАБИЛИТАЦ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дицинска рехабилитација подразумева читав низ мера које се спроводе још док је пацијент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 неуролошком одељењу (млитава хемиплегија или флакцидна фаза), а касније се настављ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 специјачизованим установама за рехабилитацију (спастична фаза) у циљу функционалног опоравк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ред тога спроводи се психичка и социјална реедукација пацијена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МЕДИЦИНСКА РЕХАБИЛИТАЦ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Фаза млитаве хемиплегиј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 фази млитаве хемиплегије, док је болесник на одељењу неурологије, спроводи се програм ране рехабилитације, која укључује период од прве три недеље након М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Циљеви су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пречавање компликација имобилности (непокретности услед лежања) који је значајан фактор морбидите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лимична фасилитација (олакшање) сензомоторног опоравка и припрема пацијента за другу интермедијарну фаз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МЕДИЦИНСКА РЕХАБИЛИТАЦ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f497d"/>
                </a:solidFill>
                <a:latin typeface="Century Schoolbook"/>
              </a:rPr>
              <a:t>Фаза спастичне хемиплегије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пастицитет као део синдрома оштећења ЦМН често је доминантан проблем у оспособљавању моторних функција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Манифестује се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овећаним тонусом мишића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пазмима и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еправилном коактивацијом мишића при покушајима вољних покрета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оред промењене моторне контроле јавља се и промена контрактилних и виско-еластичних  својстава мишића са брзим стварањем конрактура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СПАСТИЧНИ СИНЕРГИЗАМ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6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 горњим екстремитети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лексиони синергиза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69960" y="1600200"/>
            <a:ext cx="4187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 доњим екстремитетима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кстензиони синергитза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rcRect l="18091" t="0" r="19313" b="0"/>
          <a:stretch/>
        </p:blipFill>
        <p:spPr>
          <a:xfrm>
            <a:off x="838080" y="3200400"/>
            <a:ext cx="3005280" cy="3548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rcRect l="53712" t="26563" r="26564" b="55861"/>
          <a:stretch/>
        </p:blipFill>
        <p:spPr>
          <a:xfrm>
            <a:off x="4419720" y="3048120"/>
            <a:ext cx="38480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МЕДИЦИНСКА РЕХАБИЛИТАЦ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Фаза спастичне хемиплегиј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ре здравствене нег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ункционално оспособљавањ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инезитерап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изикалну терап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рапија радом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мену ортотских средстав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оворна рехабилитац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сихичка и социјална потпор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ФИЗИКАЛНИ ТРЕТМАН КОМПЛИКАЦИЈА МУ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16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Третман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спастичних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мишић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Алгодистрофиј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раменог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зглоб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Физикални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третман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едем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шак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Физикални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третман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контрактура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зглобов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Физикални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третман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декубиту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1f497d"/>
                </a:solidFill>
                <a:latin typeface="Century Schoolbook"/>
              </a:rPr>
              <a:t>ЛЕЗИЈЕ ЦМН УГЛАВНОМ ПРАЋЕНЕ СПАСТИЦИТЕТОМ </a:t>
            </a:r>
            <a:r>
              <a:rPr b="0" lang="en-US" sz="4000" spc="-1" strike="noStrike">
                <a:solidFill>
                  <a:srgbClr val="1f497d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1f497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entury Schoolbook"/>
              </a:rPr>
              <a:t>Краниоцеребралне повред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1f497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1f497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entury Schoolbook"/>
              </a:rPr>
              <a:t>Васкуларне</a:t>
            </a:r>
            <a:r>
              <a:rPr b="0" lang="sr-Latn-C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Schoolbook"/>
              </a:rPr>
              <a:t>болести мозг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1f497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1f497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entury Schoolbook"/>
              </a:rPr>
              <a:t>Мултипл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entury Schoolbook"/>
              </a:rPr>
              <a:t>склероз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1f497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1f497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entury Schoolbook"/>
              </a:rPr>
              <a:t>Спастичн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entury Schoolbook"/>
              </a:rPr>
              <a:t>парапарез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ФИЗИКАЛНИ ТРЕТМАН </a:t>
            </a:r>
            <a:br>
              <a:rPr sz="3600"/>
            </a:b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ЕДЕМА ШАКЕ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3316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Т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зиционирањ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акуса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аскулатор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ЕС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ДЕЛТОИДЕУСА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И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ДОРЗАЛНИХ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ФЛЕКСОРА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ШАКЕ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И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ПРСТИЈУ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97" name="Content Placeholder 12" descr="HPIM0208.JPG"/>
          <p:cNvPicPr/>
          <p:nvPr/>
        </p:nvPicPr>
        <p:blipFill>
          <a:blip r:embed="rId1"/>
          <a:srcRect l="0" t="0" r="20754" b="0"/>
          <a:stretch/>
        </p:blipFill>
        <p:spPr>
          <a:xfrm>
            <a:off x="609480" y="2362320"/>
            <a:ext cx="3505320" cy="3138480"/>
          </a:xfrm>
          <a:prstGeom prst="rect">
            <a:avLst/>
          </a:prstGeom>
          <a:ln w="0">
            <a:noFill/>
          </a:ln>
        </p:spPr>
      </p:pic>
      <p:pic>
        <p:nvPicPr>
          <p:cNvPr id="398" name="Content Placeholder 13" descr="HPIM0213.JPG"/>
          <p:cNvPicPr/>
          <p:nvPr/>
        </p:nvPicPr>
        <p:blipFill>
          <a:blip r:embed="rId2"/>
          <a:stretch/>
        </p:blipFill>
        <p:spPr>
          <a:xfrm>
            <a:off x="4648320" y="2362320"/>
            <a:ext cx="3504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ЕС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КВАДРИЦЕПСА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И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ПЕРОНЕЛАНЕ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МУСКУЛАТУРЕ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00" name="Content Placeholder 6" descr="HPIM0221.JPG"/>
          <p:cNvPicPr/>
          <p:nvPr/>
        </p:nvPicPr>
        <p:blipFill>
          <a:blip r:embed="rId1"/>
          <a:stretch/>
        </p:blipFill>
        <p:spPr>
          <a:xfrm>
            <a:off x="4572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01" name="Content Placeholder 9" descr="HPIM0226.JPG"/>
          <p:cNvPicPr/>
          <p:nvPr/>
        </p:nvPicPr>
        <p:blipFill>
          <a:blip r:embed="rId2"/>
          <a:stretch/>
        </p:blipFill>
        <p:spPr>
          <a:xfrm>
            <a:off x="4495680" y="2514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ОРТОЗА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ЗА</a:t>
            </a:r>
            <a:r>
              <a:rPr b="0" lang="sr-Latn-CS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КОЛЕНО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03" name="Content Placeholder 6" descr="HPIM0406.JPG"/>
          <p:cNvPicPr/>
          <p:nvPr/>
        </p:nvPicPr>
        <p:blipFill>
          <a:blip r:embed="rId1"/>
          <a:stretch/>
        </p:blipFill>
        <p:spPr>
          <a:xfrm>
            <a:off x="1828800" y="2286000"/>
            <a:ext cx="5075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361960" y="2666520"/>
            <a:ext cx="6629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17375e"/>
                </a:solidFill>
                <a:latin typeface="Century Schoolbook"/>
              </a:rPr>
              <a:t>M</a:t>
            </a:r>
            <a:r>
              <a:rPr b="1" lang="en-GB" sz="4800" spc="-1" strike="noStrike">
                <a:solidFill>
                  <a:srgbClr val="17375e"/>
                </a:solidFill>
                <a:latin typeface="Century Schoolbook"/>
              </a:rPr>
              <a:t>B</a:t>
            </a:r>
            <a:r>
              <a:rPr b="1" lang="sr-RS" sz="4800" spc="-1" strike="noStrike">
                <a:solidFill>
                  <a:srgbClr val="17375e"/>
                </a:solidFill>
                <a:latin typeface="Century Schoolbook"/>
              </a:rPr>
              <a:t>. </a:t>
            </a:r>
            <a:r>
              <a:rPr b="1" lang="en-GB" sz="4800" spc="-1" strike="noStrike">
                <a:solidFill>
                  <a:srgbClr val="17375e"/>
                </a:solidFill>
                <a:latin typeface="Century Schoolbook"/>
              </a:rPr>
              <a:t>PARKINSONI</a:t>
            </a:r>
            <a:br>
              <a:rPr sz="4800"/>
            </a:br>
            <a:r>
              <a:rPr b="1" lang="en-GB" sz="4800" spc="-1" strike="noStrike">
                <a:solidFill>
                  <a:srgbClr val="17375e"/>
                </a:solidFill>
                <a:latin typeface="Century Schoolbook"/>
              </a:rPr>
              <a:t>(PARALYSIS AGITANS)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ПАРКИНСОНИЗАМ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линички синдром који се карактерише тремором, брадикинезијом и ригидитетом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аркинсонова болест  је само један, идиопатски ентитет из овог синдром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ПАРКИНСОНОВА БОЛЕСТ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entury Schoolbook"/>
              </a:rPr>
              <a:t>Опис овог обољења датира од  Џејмса Паркинсона, лондонског хирурга, који је први ову болест назвао 1817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sr-CS" sz="1800" spc="-1" strike="noStrike">
                <a:solidFill>
                  <a:srgbClr val="000000"/>
                </a:solidFill>
                <a:latin typeface="Century Schoolbook"/>
              </a:rPr>
              <a:t> године.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entury Schoolbook"/>
              </a:rPr>
              <a:t>Представља најчеђћи ентитет синдрома паркинсонизм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entury Schoolbook"/>
              </a:rPr>
              <a:t>Преваленца је незнатно већа код мушкарац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1f497d"/>
                </a:solidFill>
                <a:latin typeface="Century Schoolbook"/>
              </a:rPr>
              <a:t>Етиологиј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entury Schoolbook"/>
              </a:rPr>
              <a:t>Примарни (идиопатски) паркинсизам</a:t>
            </a:r>
            <a:r>
              <a:rPr b="0" lang="sr-CS" sz="1800" spc="-1" strike="noStrike">
                <a:solidFill>
                  <a:srgbClr val="000000"/>
                </a:solidFill>
                <a:latin typeface="Century Schoolbook"/>
              </a:rPr>
              <a:t> или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Mb. Parkinsoni</a:t>
            </a:r>
            <a:r>
              <a:rPr b="0" lang="sr-CS" sz="1800" spc="-1" strike="noStrike">
                <a:solidFill>
                  <a:srgbClr val="000000"/>
                </a:solidFill>
                <a:latin typeface="Century Schoolbook"/>
              </a:rPr>
              <a:t> или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Paralysis agitans j</a:t>
            </a:r>
            <a:r>
              <a:rPr b="0" lang="sr-CS" sz="1800" spc="-1" strike="noStrike">
                <a:solidFill>
                  <a:srgbClr val="000000"/>
                </a:solidFill>
                <a:latin typeface="Century Schoolbook"/>
              </a:rPr>
              <a:t>е највероватније хередитарне природе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entury Schoolbook"/>
              </a:rPr>
              <a:t>Основно оштећење је прогресивна дегенерација моторних ћелија у субкортикалним сивим масама хемисфера великог мозга тзв. базалним ганглијама (субстанција нигра, корпус стријатум и др.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entury Schoolbook"/>
              </a:rPr>
              <a:t>Нервне ћелије пропадају, нарочито у субстанција нигра, и опада ниво неуротрансмитера допамина које оне луче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ред нигростријатног пута у ПБ су оштећени и други путеви који су одговорни за немоторне симптоме (норадренергички, серотонергички, холинергички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СИМПТОМАТСКИ   ПАРКИНСОНИЗАМ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765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ред овог обољења, где се, још увек, не зна прави узрок, постоје и 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екундарна екстрапирамидална обољења која спадају у ову групу болести, симптоматски паркинсонизам или паркинсонизмус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Етиолог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аркинсонизам изазван лекови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нфектив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таболичк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руктурна оштећењ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окси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аскулар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ПАРКИНСОНОВА БОЛЕСТ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99840"/>
            <a:ext cx="3657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Доминантни симптоми и знац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Брадикинезиј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Хипокинезиј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Ригор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Тремор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мир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Оштећење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постуралних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рефлек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сихичке сметње и поремећаји у понашањ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303800" y="1600200"/>
            <a:ext cx="359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ПАРКИНСОНОВА БОЛЕСТ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600200"/>
            <a:ext cx="7467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Клиничка слик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радикинезија – сиромаштво спонтане моторике, отежано започињање и спорост покрета, смањивање њихове амплитуде, губитак ритм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мањени синкинетски покрети (махање руку током хода и гестикулација током разговор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Лице је хипомимично (лице маска), трептање ретко и понекад пљувачка цури из углова уса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ремећена артикулација (монотон и неразумљив говор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гресивно смањење слова током писања – микрограф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4674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1f497d"/>
                </a:solidFill>
                <a:latin typeface="Century Schoolbook"/>
              </a:rPr>
              <a:t>КРАНИОЦЕРЕБРАЛНЕ  ПОВРЕДЕ</a:t>
            </a: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Настају под дејством механичке силе на интракранијумски део централног нервног система. Краниоцеребралне повреде су једне од најтежих повреда у хуманој популацији. Трауматска оштећења мозга се могу поделити на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f497d"/>
                </a:solidFill>
                <a:latin typeface="Century Schoolbook"/>
              </a:rPr>
              <a:t>Commotio cerebri</a:t>
            </a:r>
            <a:r>
              <a:rPr b="0" lang="en-US" sz="19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(потрес мозга). Представља функционални поремећај можданог стабла и карактерише се: губитком свести, поремећајем дисања, амнезијом и пролазном парализом екстремитета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f497d"/>
                </a:solidFill>
                <a:latin typeface="Century Schoolbook"/>
              </a:rPr>
              <a:t>Contusio cerebri 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(нагњечење мозга). До контузије мозга долази или ударом чврстог предмета у лобању која мирује или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ударом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покретне лобање о чврсту подлогу. У зависности од оштећења присутни фокални неуролошки испади или клинички знаци дифузног можданог оштећења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f497d"/>
                </a:solidFill>
                <a:latin typeface="Century Schoolbook"/>
              </a:rPr>
              <a:t>Compessio cerebri</a:t>
            </a:r>
            <a:r>
              <a:rPr b="0" lang="sr-CS" sz="1900" spc="-1" strike="noStrike">
                <a:solidFill>
                  <a:srgbClr val="1f497d"/>
                </a:solidFill>
                <a:latin typeface="Century Schoolbook"/>
              </a:rPr>
              <a:t>. 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Компресија мозга настаје код епидуралног хематома који настаје код расцепа</a:t>
            </a: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 a. meningicae media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, и субдуралног хематома који настаје због изливања крви у простор између дуре и арахноидеје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ПАРКИНСОНОВА БОЛЕСТ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599840"/>
            <a:ext cx="7848720" cy="661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Клиничка слик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игидитет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већан тонус мишића у проксималним и дисталним мишићима, равномерно захвата агонистичке и антагонистичке мишиће, целим током покре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тпор при пасивним покретима је сталан и подсећа на</a:t>
            </a:r>
            <a:r>
              <a:rPr b="0" lang="sr-RS" sz="2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25"/>
              </a:spcBef>
              <a:buClr>
                <a:srgbClr val="4f81bd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авијање оловне шипке“ (феномен оловне шипке) или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25"/>
              </a:spcBef>
              <a:buClr>
                <a:srgbClr val="4f81bd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е јавља као наизменично појачање и опадање отпора (феномен „зупчастог  точка“-  Negroov феномен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емор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- </a:t>
            </a:r>
            <a:r>
              <a:rPr b="0" lang="sr-RS" sz="2000" spc="-1" strike="noStrike">
                <a:solidFill>
                  <a:srgbClr val="000000"/>
                </a:solidFill>
                <a:latin typeface="Century Schoolbook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чиње асиметрично, на једној руци, интермитентно, статички (у миру), груб, велике амплитуд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јачава се са узбуђењем, губи се у сну и при вољним радњам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ременом тремор постаје стално присутан, алтернирајућа груба опозиција палца и других прстију асоцира на „бројање новца“ или „прављење пилула“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ПАРКИНСОНОВА БОЛЕСТ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7848720" cy="76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Клиничка слик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ремећај аутоматских рефлескних механизама који контролишу одржавање усправног положаја и штите појединца од падова током промене положаја (губитак постуралних рефлекса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стурална нестабилност: посебно током наглих промена правца кретања. Падови су чест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тежано започињање хода, смањена брзина, кратки кораци, болесник не одиже стопала са подлоге и једноставно вуче ноге (магнетни ход), отежано се покреће и мења правац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оком хода болесник показује тенденцију прогресивног савијања пут напред до пада (антеро или пропулзија), уназад (ретропулзија), у страну (латеропулзиј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еномен залеђивања (freezing) - изненадна неспособност покретањ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ПАРКИНСОНОВА БОЛЕСТ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599840"/>
            <a:ext cx="784872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Клиничка слик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утономни поремећаји (поремећај ГИ перисталтике, констипација, ургенција и ретко инконтиненција мокрења, поремећај знојења, ортостатска хипотензиј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уропсихијатријски (деменција, анксиозност, депресија, апатиј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ремећај спавањ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ензорни симптоми (бол, парестезије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мор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МЕДИЦИНСКА РЕХАБИЛИТАЦ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905120"/>
            <a:ext cx="81532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ехабилитација оболелих од Паркинсонове болести подразумева примену следећих процедур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ре нега (промена положаја у постељи, корективни положаји, контрола пражњења м.бешике и црева, избалансирана исхрана итд.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изикална терапија (КТХ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дна терап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Логопедски третма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сихолошка и социјална потпор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КИНЕЗИТЕРАП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371240"/>
            <a:ext cx="79246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1f497d"/>
                </a:solidFill>
                <a:latin typeface="Century Schoolbook"/>
              </a:rPr>
              <a:t>Пасивне вежб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елује се на секундарне дефицит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ежбе за повећање/одржавање обима покрета; вежбе флексибилности мускулатуре; вежбе релаксације; аеробне вежб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ежбе истезања - техникe ПНФ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entury Schoolbook"/>
              </a:rPr>
              <a:t>Вежбе за увежбавање координације хода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а циљем регулисања постуралног става и враћања тежишта у назад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вежбавање хода пред огледалом- баланс при ходу, ход напред- назад и бочни ход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вежбавање хода преко препрек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вежбавање реципроцитета руку при ходу (у седећем, па у стојећем ставу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1f497d"/>
                </a:solidFill>
                <a:latin typeface="Century Schoolbook"/>
              </a:rPr>
              <a:t>Вежбе дисања</a:t>
            </a:r>
            <a:r>
              <a:rPr b="0" lang="sr-CS" sz="18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entury Schoolbook"/>
              </a:rPr>
              <a:t>за очување покретљивости грудног кош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1f497d"/>
                </a:solidFill>
                <a:latin typeface="Century Schoolbook"/>
              </a:rPr>
              <a:t>Обука кинезитерапијским вежбама</a:t>
            </a:r>
            <a:r>
              <a:rPr b="0" lang="sr-CS" sz="1800" spc="-1" strike="noStrike">
                <a:solidFill>
                  <a:srgbClr val="000000"/>
                </a:solidFill>
                <a:latin typeface="Century Schoolbook"/>
              </a:rPr>
              <a:t>. Болесника треба упутити у потребу свакодневног вежбањ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ФИЗИКАЛНА ТЕРАП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904760"/>
            <a:ext cx="815328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Schoolbook"/>
              </a:rPr>
              <a:t>Мануелна масажа са циљем да смањи ригор и постигне релаксацију пацијент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Schoolbook"/>
              </a:rPr>
              <a:t>Хидротерапија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 37-38⁰) </a:t>
            </a:r>
            <a:r>
              <a:rPr b="0" lang="sr-RS" sz="2000" spc="-1" strike="noStrike">
                <a:solidFill>
                  <a:srgbClr val="000000"/>
                </a:solidFill>
                <a:latin typeface="Century Schoolbook"/>
              </a:rPr>
              <a:t>користи се за повећање обима покрета; ритмички покрети у топлој води смањују ригор, повећавају флексибилност зглобова и појачавају релаксациј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Schoolbook"/>
              </a:rPr>
              <a:t>Криотерапија смањује ригидитет мишић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Schoolbook"/>
              </a:rPr>
              <a:t>Едукација ригидитета врши се ритмичким симетричним покретима са порастом амплитуд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1f497d"/>
                </a:solidFill>
                <a:latin typeface="Century Schoolbook"/>
              </a:rPr>
              <a:t>РАДНА ТЕРАП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0520" y="19051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Ефекти које обезбеђује терапија радом су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Кинезиолошки (побољшање функције појединих сегмената локомоторног апарата, кроз повећање обима покрета у зглобовима, повећање мишићне снаге, еластичности, координације и брзине извођења покрета)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Психосоцијални, при чему посебан значај има у припреми за обуку у обављању активности дневнога живота (АДЖ) као и у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Припреми за професионално усмеравање и оспособљавањ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2666520"/>
            <a:ext cx="6629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300" spc="-1" strike="noStrike">
                <a:solidFill>
                  <a:srgbClr val="17375e"/>
                </a:solidFill>
                <a:latin typeface="Century Schoolbook"/>
              </a:rPr>
              <a:t>МУЛТИПЛА СКЛЕРОЗА</a:t>
            </a:r>
            <a:br>
              <a:rPr sz="4300"/>
            </a:br>
            <a:r>
              <a:rPr b="1" lang="en-GB" sz="4300" spc="-1" strike="noStrike">
                <a:solidFill>
                  <a:srgbClr val="17375e"/>
                </a:solidFill>
                <a:latin typeface="Century Schoolbook"/>
              </a:rPr>
              <a:t>(SCLEROSIS MULTIPLEX)</a:t>
            </a:r>
            <a:endParaRPr b="0" lang="en-US" sz="43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7375e"/>
                </a:solidFill>
                <a:latin typeface="Century Schoolbook"/>
              </a:rPr>
              <a:t>МУЛТИПЛА СКЛЕРОЗА (МС)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2120" y="1980720"/>
            <a:ext cx="7162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ултипла склероза је хронична демијелиназициона болест ЦНС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ољење са варијабилним током и симптоматологијом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Јавља се између 20-е и 40-е године. Чешће обољевају жене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го мушкарци (3:1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Губитак мијелинског омотача онемогућава скоковито преношење импулса дуж нервног влакна, што доводи до веома израженог смањења брзине спровођења, или чак инхибиције пропагације импулс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7375e"/>
                </a:solidFill>
                <a:latin typeface="Century Schoolbook"/>
              </a:rPr>
              <a:t>МУЛТИПЛА СКЛЕРОЗА 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762120" y="1980720"/>
            <a:ext cx="7162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новна патоанатомска промена  је огњиште демијелинизације (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plaqu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лак), величине од микроскопске лезије до неколико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cm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у пречнику и она су расута по разним деловима централног нервног система, мада постоје одређена предилекциона места где се плакови најчешће јављају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entury Schoolbook"/>
              </a:rPr>
              <a:t>као што су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у: перивентрикуларно, кортикално, оптички нерви, корпус калосум, мождано стабло, церебеллум, медула спиналис, посебно њен цервикални део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1f497d"/>
                </a:solidFill>
                <a:latin typeface="Century Schoolbook"/>
              </a:rPr>
              <a:t>МЕДИЦИНСКА РЕХАБИЛИТАЦ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С обзиром да повреде главе остављају привремене или трајне неуролошке поремећаје, функционалне, когнитивне и психијатријске дефиците, поред њиховог збрињавања и лечења посебан проблем је спречавање и лечење компликација и последица повреде. Циљ рехабилитације ј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Смањење компликација 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Бржи опоравак и повратак болесника у своју радну средину са што мањим неуролошким и функционалним дефицит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Медицинска рехабилитација болесника са краниоцеребралним повредама почиње још </a:t>
            </a:r>
            <a:r>
              <a:rPr b="0" lang="sr-RS" sz="20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 јединицама интензивног лечења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7375e"/>
                </a:solidFill>
                <a:latin typeface="Century Schoolbook"/>
              </a:rPr>
              <a:t>МУЛТИПЛА СКЛЕРОЗА 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62120" y="18288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1f497d"/>
                </a:solidFill>
                <a:latin typeface="Century Schoolbook"/>
              </a:rPr>
              <a:t>Подела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entury Schoolbook"/>
              </a:rPr>
              <a:t>Релапсно ремитентна форма (80%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entury Schoolbook"/>
              </a:rPr>
              <a:t>Секундарно прогресивн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entury Schoolbook"/>
              </a:rPr>
              <a:t>Примарно прогресивн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entury Schoolbook"/>
              </a:rPr>
              <a:t>Релапсно ремитентна форма се карактерише  атацима (релапсима) и ремисијам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7375e"/>
                </a:solidFill>
                <a:latin typeface="Century Schoolbook"/>
              </a:rPr>
              <a:t>МУЛТИПЛА СКЛЕРОЗА 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62120" y="18288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линичка слика може бити разноврсна и у почетку опонашати било коју неуролошку болест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С је велики имитатор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 дијагностици најважнији је клинички налаз, јер специфичног лабораторијског теста за доказивање болести нем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новно правило је "дисеминованост лезија у простору и времену"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оже се срести, према класичним описима Шаркота, (тријас симптома - спастицитет, атаксија, скандиран говор), Wartenberga (правило супротности), али основна карактеристика је дисеминoваност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7375e"/>
                </a:solidFill>
                <a:latin typeface="Century Schoolbook"/>
              </a:rPr>
              <a:t>МУЛТИПЛА СКЛЕРОЗА 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62120" y="13716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f497d"/>
                </a:solidFill>
                <a:latin typeface="Century Schoolbook"/>
              </a:rPr>
              <a:t>Клиничка слик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оремећај сензибилитета ( парестезије, анестезије, хипестезије...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Моторне (слабост /одузетост једног или више екстремите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оремећај вида (појава дуплих слика - диплопија, замагљење, бол у једном оку, испади у видном пољу...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Вртоглавиц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оремећај говора (скандиран говор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сихичке промене (еуфорија, депесија, интелектуални пад, раздражљивост, апатија, промена расположења 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роблеми контроле сфинктер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нтециони тремор, атаксиј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Замор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ароксизмални знаци (грч руке или ноге, дизартрија, неуралгија тригеминуса...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7375e"/>
                </a:solidFill>
                <a:latin typeface="Century Schoolbook"/>
              </a:rPr>
              <a:t>МУЛТИПЛА СКЛЕРОЗА 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62120" y="13716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041720" cy="3792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0384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7375e"/>
                </a:solidFill>
                <a:latin typeface="Century Schoolbook"/>
              </a:rPr>
              <a:t>ФИЗИКАЛНА ТЕРАП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09480" y="14475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изикалну терапију не треба примењивати у фазама активности болести, већ у фазама стабилизације и мировањ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 акутној фази болести, када се спроводи интензивна медикаментозна терапија, физикална терапија је усмерена само на спречавање иреверзибилних деформантних промена и подразумев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асивне и активне вежбе за обим покрета у зглобовима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татичке контракције за спречавање атрофије мишића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зиционирање дисфункцијских екстремитета и зглобов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ора се избегавати свако веће физичко напрезање, може довести до погоршања услед физичког замора и загрејавања организм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збегавати примену топлотних процедура,  може да повећа температуру болесника и тако доведе до појаве погоршања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(Uthoff)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7375e"/>
                </a:solidFill>
                <a:latin typeface="Century Schoolbook"/>
              </a:rPr>
              <a:t>МЕДИЦИНСКА РЕХАБИЛИТАЦ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762120" y="18288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Schoolbook"/>
              </a:rPr>
              <a:t>Физикална терапиј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Кинезитерапију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Хидротерапију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Масажу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Електротерапију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дна терап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етман код психолога и логопед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7375e"/>
                </a:solidFill>
                <a:latin typeface="Century Schoolbook"/>
              </a:rPr>
              <a:t>ТРЕТМАН СПАСТИЧНИХ МИШИЋ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091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Медикаментно лечење (Баклофен, тизанидини, бензодиазепини, Толперисон</a:t>
            </a: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 -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за болне спазме, Ботулински  токсин А</a:t>
            </a: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изикална инхибиција хипертонуса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ефлексно инхибиторни положаји, користе за: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мањење тонуса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пречавање фиксације патолошког синергичног обрасца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риотерапија. Код спастичности тзв. "гама спастичности" 90%  пацијената третираних ледом, показује смањење спастичности, која се одржава чак 10 - 12 часова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entury Schoolbook"/>
              </a:rPr>
              <a:t>Хидрокинезитерапија у хладној вод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Електростимулација спастичних мишића (аутогена инхибицији)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Електростимулација антагонистичких мишића (реципрочна инервација </a:t>
            </a: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Шерингтон)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1f497d"/>
                </a:solidFill>
                <a:latin typeface="Century Schoolbook"/>
              </a:rPr>
              <a:t>У ЈЕДИНИЦАМА ИНТЕНЗИВНОГ ЛЕЧЕЊ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51920" y="1292040"/>
            <a:ext cx="8991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f497d"/>
                </a:solidFill>
                <a:latin typeface="Century Schoolbook"/>
              </a:rPr>
              <a:t>Циљ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1f497d"/>
                </a:solidFill>
                <a:latin typeface="Century Schoolbook"/>
              </a:rPr>
              <a:t>Превенција и смањење компликација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08120" indent="-34308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entury Schoolbook"/>
              </a:rPr>
              <a:t>Респираторних компликација (пнеумонија које се најчешће јављају као последица централне лезије а ређе као аспирациона и хипостатска пнеумонија)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08120" indent="-34308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entury Schoolbook"/>
              </a:rPr>
              <a:t>Промена на мишићно-коштаном систему, посебно контрактуре које се углавном јављају код болесника са децеребрационом ригидношћу, и најчешће на лактовима и скочним зглобовима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08120" indent="-34308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entury Schoolbook"/>
              </a:rPr>
              <a:t>Декубитуса који се јављају на предилекционим местима (сацрум, малеолуси и др.)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08120" indent="-34308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entury Schoolbook"/>
              </a:rPr>
              <a:t>Тромбофлебитис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1f497d"/>
                </a:solidFill>
                <a:latin typeface="Century Schoolbook"/>
              </a:rPr>
              <a:t>Бржи опоравак и повратак болесника у своју средину са што мањим неуролошким и функционалним дефицит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entury Schoolbook"/>
              </a:rPr>
              <a:t>Поступци ране рехабилитације спроводе се сваког дана три пута у току дана а по потреби и чешће. У оквиру рехабилитационих поступака спроводе се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1f497d"/>
                </a:solidFill>
                <a:latin typeface="Century Schoolbook"/>
              </a:rPr>
              <a:t> </a:t>
            </a:r>
            <a:r>
              <a:rPr b="1" lang="sr-CS" sz="1600" spc="-1" strike="noStrike">
                <a:solidFill>
                  <a:srgbClr val="1f497d"/>
                </a:solidFill>
                <a:latin typeface="Century Schoolbook"/>
              </a:rPr>
              <a:t>Мере неге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1f497d"/>
                </a:solidFill>
                <a:latin typeface="Century Schoolbook"/>
              </a:rPr>
              <a:t> </a:t>
            </a:r>
            <a:r>
              <a:rPr b="1" lang="sr-CS" sz="1600" spc="-1" strike="noStrike">
                <a:solidFill>
                  <a:srgbClr val="1f497d"/>
                </a:solidFill>
                <a:latin typeface="Century Schoolbook"/>
              </a:rPr>
              <a:t>Позиционирање </a:t>
            </a:r>
            <a:r>
              <a:rPr b="0" lang="sr-CS" sz="1600" spc="-1" strike="noStrike">
                <a:solidFill>
                  <a:srgbClr val="000000"/>
                </a:solidFill>
                <a:latin typeface="Century Schoolbook"/>
              </a:rPr>
              <a:t>свим расположивим средствима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1f497d"/>
                </a:solidFill>
                <a:latin typeface="Century Schoolbook"/>
              </a:rPr>
              <a:t>Окретање болесника</a:t>
            </a:r>
            <a:r>
              <a:rPr b="0" lang="sr-CS" sz="1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entury Schoolbook"/>
              </a:rPr>
              <a:t>у циљу превенције респираторних компликација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1f497d"/>
                </a:solidFill>
                <a:latin typeface="Century Schoolbook"/>
              </a:rPr>
              <a:t>Перкусија и вибрација грудног коша</a:t>
            </a:r>
            <a:r>
              <a:rPr b="0" lang="sr-CS" sz="1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entury Schoolbook"/>
              </a:rPr>
              <a:t>у циљу покретања и аспирације секрет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1f497d"/>
                </a:solidFill>
                <a:latin typeface="Century Schoolbook"/>
              </a:rPr>
              <a:t>Модификована положајна дренажа</a:t>
            </a:r>
            <a:r>
              <a:rPr b="0" lang="sr-CS" sz="1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entury Schoolbook"/>
              </a:rPr>
              <a:t>али са подигнутим узглављем на 30 или 60 степени, ради смањења интракранијалног притиск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1f497d"/>
                </a:solidFill>
                <a:latin typeface="Century Schoolbook"/>
              </a:rPr>
              <a:t>Пасивне вежбе</a:t>
            </a:r>
            <a:r>
              <a:rPr b="0" lang="sr-CS" sz="1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entury Schoolbook"/>
              </a:rPr>
              <a:t>свих слободних зглобова у циљу одржања добре покретљивости и спречавања контрактур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1f497d"/>
                </a:solidFill>
                <a:latin typeface="Century Schoolbook"/>
              </a:rPr>
              <a:t>У ЈЕДИНИЦАМА ПОЛУИНТЕНЗИВНОГ ЛЕЧЕЊ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9843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Медицинска рехабилитација има за циљ даље спречавање компликација и смањење функционалног неуролошког дефицит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Рехабилитациони третман се спроводи т</a:t>
            </a:r>
            <a:r>
              <a:rPr b="0" lang="sr-RS" sz="20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и пута дневно и подразумев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Пасивне вежб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Активне вежб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Вежбе координациј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Вежбе баланс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Императив је рана вертикализација</a:t>
            </a:r>
            <a:r>
              <a:rPr b="0" lang="sr-CS" sz="2000" spc="-1" strike="noStrike">
                <a:solidFill>
                  <a:srgbClr val="1f497d"/>
                </a:solidFill>
                <a:latin typeface="Century Schoolbook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подизање болесника и постављање у седећи и стојећи положај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1f497d"/>
                </a:solidFill>
                <a:latin typeface="Century Schoolbook"/>
              </a:rPr>
              <a:t>ХЕМИПЛЕГИЈА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3160" y="21333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Хемиплегија значи одузетост једне половине тела. Етиолошки узрок се налази у моторној зони супротне хемисфере мозг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Термин </a:t>
            </a:r>
            <a:r>
              <a:rPr b="1" lang="sr-CS" sz="2000" spc="-1" strike="noStrike">
                <a:solidFill>
                  <a:srgbClr val="1f497d"/>
                </a:solidFill>
                <a:latin typeface="Century Schoolbook"/>
              </a:rPr>
              <a:t>мождани удар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(МУ) је у последње време одомаћен назив, мада се употребљавају и други синоними као церебровскуларни инсулт (ЦВИ), шлог, апоплексија (грчка реч са значењем удар), мождани шлог, итд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У англосанксонској номенклатури најчешћи назив је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oke </a:t>
            </a:r>
            <a:r>
              <a:rPr b="0" lang="sr-CS" sz="2000" spc="-1" strike="noStrike">
                <a:solidFill>
                  <a:srgbClr val="000000"/>
                </a:solidFill>
                <a:latin typeface="Century Schoolbook"/>
              </a:rPr>
              <a:t>(строук), мада се све више употребљава назив акутна цереброваскуларна болес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МОЖДАНИ УДАР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22093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Schoolbook"/>
              </a:rPr>
              <a:t>Дефинициј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ветска здравствена организација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гло настал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окални неконвулзивни неуролошки поремећај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аје дуже од 60 минут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може се открити други разлог насталог поремећаја сем васкуларних узрок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1f497d"/>
                </a:solidFill>
                <a:latin typeface="Century Schoolbook"/>
              </a:rPr>
              <a:t>МОЖДАНИ УДАР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entury Schoolbook"/>
              </a:rPr>
              <a:t>Фактори ризик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 које се може утицат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Хипертенз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ушењ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олести срц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иабетес мелитус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Хиперкоагулабилнос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удноћа, малигна обољења итд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већан број Ер, српасте ћелиј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70320" y="1600200"/>
            <a:ext cx="403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 које се не може утицат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арост (&gt;55 год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л (мушкарци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сна припадност (црна, жута рас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едходни М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енетски фактор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35:23Z</dcterms:created>
  <dc:creator>Mark Ricard</dc:creator>
  <dc:description/>
  <dc:language>en-US</dc:language>
  <cp:lastModifiedBy>Ana</cp:lastModifiedBy>
  <dcterms:modified xsi:type="dcterms:W3CDTF">2024-05-07T20:38:21Z</dcterms:modified>
  <cp:revision>78</cp:revision>
  <dc:subject/>
  <dc:title>Introduction To Manual Muscle Testing</dc:title>
</cp:coreProperties>
</file>